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4.jpeg" ContentType="image/jpeg"/>
  <Override PartName="/ppt/media/WHOOSH.WAV" ContentType="audio/x-wav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43BF-FB2E-4315-BCD3-AE905B6D9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9FC-CD62-4EC8-9A79-68117FAC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2DF-FBF0-4E08-B32C-7EDE587B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1A7-4E02-43B3-AB35-90680E18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ABE-D514-46D1-A75E-3A43D657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CA4-038E-487A-94FC-0326EAE0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854-E84D-42FA-B59D-D3B7D729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CF1-ACF8-4DC0-876C-74447B28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A19-3442-49D8-88C5-BDD39184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B0C-052A-47D4-BB60-DA115B6C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0EF-0CC5-4BA6-A711-050A74A5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1EB-BE12-4AB6-B610-28CE480E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7F03-D8D1-4EB7-B6E1-EBA32EA3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81F1-BF62-40A9-B6BD-535FE80AF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>
                <a:gd name="textAreaLeft" fmla="*/ 0 w 2126160"/>
                <a:gd name="textAreaRight" fmla="*/ 2126520 w 212616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Нижний колонтитул 5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8-03-22T09:36:21Z</dcterms:modified>
  <cp:revision>53</cp:revision>
  <dc:subject/>
  <dc:title>Foundation 1 - Discovering Astronomy</dc:title>
</cp:coreProperties>
</file>